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1DD8-B409-472F-A7EB-55E4D7D0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E98F-1BFD-4C83-8C5A-1F1B67C1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6574-E090-4D22-99CD-C01233E7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894-7595-432A-A73F-89F98CB8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4C8-DC79-4F1C-9117-0E2A500B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23E-007B-43A8-A634-F9EBE25A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86F-D0B1-4D93-95DB-E46A0162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D86-5445-4F52-9228-387E5CEB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0587-381A-48A0-9723-8ED3D740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711-E77A-4B60-9DDF-70E98DCF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B2D-E986-4A44-A0BE-A4C3F6F5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15E3-01F9-4FC7-B9E8-0D097469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0441-7374-4261-811D-E42E2FC47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6475" t="0" r="0" b="7583"/>
          <a:stretch/>
        </p:blipFill>
        <p:spPr>
          <a:xfrm>
            <a:off x="304920" y="228600"/>
            <a:ext cx="2146320" cy="525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" name=""/>
          <p:cNvSpPr/>
          <p:nvPr/>
        </p:nvSpPr>
        <p:spPr>
          <a:xfrm>
            <a:off x="307440" y="5562720"/>
            <a:ext cx="197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ustavo Valdé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Cuba, Mat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-2619" t="0" r="0" b="3895"/>
          <a:stretch/>
        </p:blipFill>
        <p:spPr>
          <a:xfrm>
            <a:off x="2895480" y="533520"/>
            <a:ext cx="2816280" cy="5333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" name=""/>
          <p:cNvSpPr/>
          <p:nvPr/>
        </p:nvSpPr>
        <p:spPr>
          <a:xfrm>
            <a:off x="2666880" y="2288160"/>
            <a:ext cx="1600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laudia Lava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Chi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emuco/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divia/Concepc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28574" t="0" r="33337" b="4658"/>
          <a:stretch/>
        </p:blipFill>
        <p:spPr>
          <a:xfrm>
            <a:off x="6267600" y="1143000"/>
            <a:ext cx="2876400" cy="5257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" name=""/>
          <p:cNvSpPr/>
          <p:nvPr/>
        </p:nvSpPr>
        <p:spPr>
          <a:xfrm>
            <a:off x="5336640" y="601992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nuel Alon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España, Zarago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724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5480" y="2286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Aventuras de Los Amigos: Perso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7080" y="5791320"/>
            <a:ext cx="230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och Oroz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México, Guanaju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39797" t="0" r="39624" b="6829"/>
          <a:stretch/>
        </p:blipFill>
        <p:spPr>
          <a:xfrm>
            <a:off x="228600" y="304920"/>
            <a:ext cx="2681280" cy="5181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" descr=""/>
          <p:cNvPicPr/>
          <p:nvPr/>
        </p:nvPicPr>
        <p:blipFill>
          <a:blip r:embed="rId2"/>
          <a:srcRect l="0" t="0" r="51664" b="7899"/>
          <a:stretch/>
        </p:blipFill>
        <p:spPr>
          <a:xfrm>
            <a:off x="3370320" y="762120"/>
            <a:ext cx="2954160" cy="4495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" name=""/>
          <p:cNvSpPr/>
          <p:nvPr/>
        </p:nvSpPr>
        <p:spPr>
          <a:xfrm>
            <a:off x="3657600" y="5105880"/>
            <a:ext cx="152388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eria Piñei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Uruguay, Montevide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0" r="50006" b="5071"/>
          <a:stretch/>
        </p:blipFill>
        <p:spPr>
          <a:xfrm>
            <a:off x="5919840" y="1752480"/>
            <a:ext cx="2908080" cy="472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4" name=""/>
          <p:cNvSpPr/>
          <p:nvPr/>
        </p:nvSpPr>
        <p:spPr>
          <a:xfrm>
            <a:off x="8003880" y="48002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lop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724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30492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Aventuras de Los Amigos: Person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13:27:17Z</dcterms:created>
  <dc:creator>Valeria.Palladino</dc:creator>
  <dc:description/>
  <dc:language>en-US</dc:language>
  <cp:lastModifiedBy>Home</cp:lastModifiedBy>
  <dcterms:modified xsi:type="dcterms:W3CDTF">2010-02-06T18:36:02Z</dcterms:modified>
  <cp:revision>7</cp:revision>
  <dc:subject/>
  <dc:title>Slide 1</dc:title>
</cp:coreProperties>
</file>